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8606-CB19-497A-885B-60CC1576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5B1-189C-4AFC-AC0F-2516929D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1DF-D14A-4B17-A9AB-2E716A91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3C35-771D-44BD-9FBD-C14441A2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F538-EE65-4F87-9C46-9E73DB36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652-360C-4C38-91D0-60A9594C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0F9-649C-4CD6-A971-F2FE2D12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43B-4E6C-43DD-BFD3-ECC75990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B5E-2921-4F79-8553-291A4429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3D8-9F2C-438E-AB8A-DBD2B870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10B7-0B7B-4700-B420-4FC04DC1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3FD-5EE2-4FDD-8DC2-02148AE1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D1EC-C55C-4240-BB56-4E476C069D7C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24560"/>
            <a:ext cx="88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indows 7 kurulum için en az 512 MB ram belleğe ihtiyaç duyuyor. Kurulum süresi windows xp'den daha kısa ve daha bas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urulum için indirdiğiniz iso dosyasını dvd ye yazdırıp dvdden kurmalısınız.</a:t>
            </a:r>
            <a:br>
              <a:rPr sz="1200"/>
            </a:b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urulum aşamaları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619760" cy="386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79320" y="5012640"/>
            <a:ext cx="287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indows kurulum dosyalarını yüklü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87280" y="228600"/>
            <a:ext cx="6724800" cy="5000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4760" y="5444280"/>
            <a:ext cx="21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gistry ayarları yü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620120" cy="5562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2560" y="581760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urulum tamamlanı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55600" y="210960"/>
            <a:ext cx="6801120" cy="4658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6920" y="4941000"/>
            <a:ext cx="376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Arial"/>
              </a:rPr>
              <a:t>Görüntü performansını kontrol eden açılış ekranı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38200" y="196920"/>
            <a:ext cx="6229440" cy="5248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45040" y="5444280"/>
            <a:ext cx="335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indows 7 için kullanıcı hesabı oluşturuyoru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19200" y="247680"/>
            <a:ext cx="6077160" cy="4981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8000" y="5390280"/>
            <a:ext cx="888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u pencerede güncelleştirmeleri işlemlerini seçip devam edeceğiz. Use recommended settings: Bütün güncelleme ve güvenlik paketlerini kur.Install important updates only: Sadece önemli olan güncelleştirmeleri kur.</a:t>
            </a:r>
            <a:br>
              <a:rPr sz="1200"/>
            </a:b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Ask me later: Yükleme paketlerini kurmam için daha sonra sor demektir.Eğer internet bağlantınız yoksa 3. seçeneği seç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04880" y="209520"/>
            <a:ext cx="5991480" cy="5019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42600" y="5241240"/>
            <a:ext cx="29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Saat dilimi ve tarih ayarlarını ayarlıyoru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16280" y="247680"/>
            <a:ext cx="5248080" cy="447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04760" y="4723560"/>
            <a:ext cx="180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Masaüstü oluşturulu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1680" y="6020640"/>
            <a:ext cx="827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İşte windows 7 yi kurduk ve masaüstü açıldı.Bundan sonraki resimlerde windows 7 içinde çeşitli bölümleri görebilirsini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ncode_imageresizer_container_4" descr=""/>
          <p:cNvPicPr/>
          <p:nvPr/>
        </p:nvPicPr>
        <p:blipFill>
          <a:blip r:embed="rId1"/>
          <a:stretch/>
        </p:blipFill>
        <p:spPr>
          <a:xfrm>
            <a:off x="768240" y="189000"/>
            <a:ext cx="76201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ncode_imageresizer_container_3" descr=""/>
          <p:cNvPicPr/>
          <p:nvPr/>
        </p:nvPicPr>
        <p:blipFill>
          <a:blip r:embed="rId1"/>
          <a:stretch/>
        </p:blipFill>
        <p:spPr>
          <a:xfrm>
            <a:off x="768240" y="200160"/>
            <a:ext cx="762012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7601040" cy="5743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4360" y="5798880"/>
            <a:ext cx="786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urulum dosyaları hazırlandıktan sonra kurulum dilini, zaman ve yerel ayarlar için  ülkeyi ve klavye dilini seçiyoru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ncode_imageresizer_container_2" descr=""/>
          <p:cNvPicPr/>
          <p:nvPr/>
        </p:nvPicPr>
        <p:blipFill>
          <a:blip r:embed="rId1"/>
          <a:stretch/>
        </p:blipFill>
        <p:spPr>
          <a:xfrm>
            <a:off x="768240" y="244440"/>
            <a:ext cx="76201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55640" y="254160"/>
            <a:ext cx="760104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77960" y="260280"/>
            <a:ext cx="76104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87320" y="260280"/>
            <a:ext cx="760104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77960" y="244440"/>
            <a:ext cx="761040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77960" y="254160"/>
            <a:ext cx="76104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134040" cy="4762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53320" y="4941000"/>
            <a:ext cx="507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Sonraki adımda kurulumu başlatmak için Install Now yazısına tıklıyoru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10400" cy="4991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4560" y="5241240"/>
            <a:ext cx="82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rşımıza lisans ve kullanım koşulları geliyor.I accept the license terms kutusunu işaretleyip next düğmesine tıklayalı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8240" y="115920"/>
            <a:ext cx="7620120" cy="570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62760" y="5876280"/>
            <a:ext cx="714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u aşamada Upgrade seçeneği ile önceki windows sürümlerinden yükseltme yapabiliri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Ya da Custom (advanced) seçeneği ile yeni bir kurulum yapabiliriz.Bu seçeneği seçip devam ediyoru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8240" y="216000"/>
            <a:ext cx="7620120" cy="5734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71040" y="6033240"/>
            <a:ext cx="563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Windows 7'yi kuracağımız sabit disk bölümünü seçip next düğmesine tıklayalı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ncode_imageresizer_container_1" descr=""/>
          <p:cNvPicPr/>
          <p:nvPr/>
        </p:nvPicPr>
        <p:blipFill>
          <a:blip r:embed="rId1"/>
          <a:stretch/>
        </p:blipFill>
        <p:spPr>
          <a:xfrm>
            <a:off x="768240" y="200160"/>
            <a:ext cx="7620120" cy="567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85880" y="5961960"/>
            <a:ext cx="603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u ekranda windows kopyalanacak dosyaları ayıklıyor.Bu adımda biraz beklemelisini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87320" y="189000"/>
            <a:ext cx="7601040" cy="5686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02080" y="5961960"/>
            <a:ext cx="32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Ayıklama ve kopyalama işlemi devam ed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97040" y="209520"/>
            <a:ext cx="7591320" cy="5667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7120" y="5876280"/>
            <a:ext cx="837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Dosyaları ayıklama ve kopyalama bitti.Ek özellikler yükleniyor.Bu işlemden sonra bilgisayarınız kapanıp tekrar açılacakt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4:49:13Z</dcterms:created>
  <dc:creator>Memo</dc:creator>
  <dc:description/>
  <dc:language>en-US</dc:language>
  <cp:lastModifiedBy>Memo</cp:lastModifiedBy>
  <dcterms:modified xsi:type="dcterms:W3CDTF">2009-10-05T15:06:25Z</dcterms:modified>
  <cp:revision>2</cp:revision>
  <dc:subject/>
  <dc:title>Slide 1</dc:title>
</cp:coreProperties>
</file>